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9ca"/>
                </a:solidFill>
                <a:latin typeface="Lucida Grande"/>
              </a:rPr>
              <a:t>Click to move the slide</a:t>
            </a:r>
            <a:endParaRPr b="0" lang="en-US" sz="48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9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 grid system formed by lines of latitude and longitude makes it easy to find the absolute location of any place in the world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D061-8C18-49FE-9BC8-13FA0FF52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5938-0DC5-4FE3-AE3E-88835D2F9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35D5-FA51-439D-A94B-5E5DA81FB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E601-9AD1-4CB2-B326-E5B7B309B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F9DC-C4BA-4C34-A4DD-4ABEA8685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3ED5-D884-4329-A757-DFDB4329A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8AAD-7D57-4DA9-8528-A347884CB7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BB1C-A2B9-4469-8184-1B10F11AE5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35E2-EB0E-459B-AE55-37ABBBE291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FFD8-CD82-491A-A47B-1896C3DC8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2D93-2BEF-42CD-BF65-D1ADC73D8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CE1A-D49C-4FB7-9717-E75F0FEDC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0424-ED26-4999-8AAB-C434BEE0F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BB4D-E461-494A-AA70-804C32A14A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83A5-F118-4930-843E-15202DA73B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A2DE-F433-4E8F-8B3B-8BADD9DD6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8CA7-9FAB-4DB6-8B10-35C47610DF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FDC-9973-434A-AF13-EC0DC3C407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1AC-77D2-4EE6-85C8-C3BF4B0B50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15A-3EA8-4751-908C-AA5050D094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809-8D51-406A-A567-6BA5B89282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820-29AB-486B-B6D1-FB8D436527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0266-0BE3-4E49-942C-EEA2B562B2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063-1778-45B0-AF8A-2E42DF5D42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853-6F43-4F2A-B54E-EA5EC3EC64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CF4-DF47-46FB-AE27-A66C16192B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71D-182B-42EE-A20D-4CC590B79F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326-E7B9-4FAC-ADD9-C2C7CA5CD3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163-55F3-4816-874B-A59AE64279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7BC-811A-47E4-8E85-231617C2F7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74BCD-5AC1-4C9D-B49F-736284AA4C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9C26D-B5D8-4DD6-A588-520A7E00C3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F5C6F-A04B-4E38-900C-93B50A977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C900-B15A-44D9-AD39-C9A2D53205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BA0A9-CB6D-4A72-A587-271524C8A0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F515-7292-4A5E-8B51-66F2F6050B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85555-1DD6-4BDF-9317-4D6422259C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96C1-F514-4F75-A366-1F39B8168C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4568-1E1D-4F6E-85F3-8E65EBAF5E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2260-0671-40FD-A735-F89C490498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4D1AC-CE42-480D-9821-1C8E58C490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77AF3-9A85-46B6-8264-2002BF49C9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5BC84-E980-483B-9D8A-E1FA5D7CE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8D4B-29A8-41CA-9BBB-88A395C9C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43D7-0030-4EEB-8A03-E497CB534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0824-8B80-4D04-AE37-14D0C7831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3148-AB25-4A9A-AD6D-0488D3955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5235-6138-45C9-BC57-C04D494B7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9ca"/>
                </a:solidFill>
                <a:latin typeface="Lucida Grande"/>
              </a:rPr>
              <a:t>Click to edit the title text format</a:t>
            </a:r>
            <a:endParaRPr b="0" lang="en-US" sz="48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2819520"/>
            <a:ext cx="655956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3430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8002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12574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17146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17146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17146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72480" y="6477120"/>
            <a:ext cx="341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3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3E60-970F-4F72-9AA0-5F584253959F}" type="slidenum">
              <a:rPr b="0" lang="en-US" sz="1600" spc="-1" strike="noStrike">
                <a:solidFill>
                  <a:srgbClr val="dfe0d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52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4472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4472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4472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248520"/>
            <a:ext cx="2923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F89-F73E-4CAD-AA05-3B4F206D5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6e9ca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44480"/>
            <a:ext cx="403848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6000"/>
          </a:bodyPr>
          <a:p>
            <a:pPr marL="250920" indent="-250920"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451800" indent="-196560">
              <a:buClr>
                <a:srgbClr val="b0ccb0"/>
              </a:buClr>
              <a:buSzPct val="8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608760" indent="-1652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765720" indent="-1569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922680" indent="-1569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922680" indent="-15696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922680" indent="-15696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775720" y="6483240"/>
            <a:ext cx="3398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3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774-EC4E-4B76-AB5E-D70FAE33498D}" type="slidenum">
              <a:rPr b="0" lang="en-US" sz="1600" spc="-1" strike="noStrike">
                <a:solidFill>
                  <a:srgbClr val="dfe0d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6e9ca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91960" indent="-291960"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525600" indent="-228600">
              <a:buClr>
                <a:srgbClr val="b0ccb0"/>
              </a:buClr>
              <a:buSzPct val="8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708120" indent="-1922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89064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10731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107316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107316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772480" y="6483240"/>
            <a:ext cx="341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3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E9C-736A-41E2-A6A5-33D239AA8369}" type="slidenum">
              <a:rPr b="0" lang="en-US" sz="1600" spc="-1" strike="noStrike">
                <a:solidFill>
                  <a:srgbClr val="dfe0d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3440" y="146160"/>
            <a:ext cx="8815320" cy="25048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9ca"/>
                </a:solidFill>
                <a:latin typeface="Lucida Grande"/>
              </a:rPr>
              <a:t>Latitude and Longitude</a:t>
            </a:r>
            <a:endParaRPr b="0" lang="en-US" sz="48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655956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1160" y="19681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fe"/>
                </a:solidFill>
                <a:latin typeface="Comic Sans MS Bold"/>
                <a:ea typeface="Comic Sans MS Bold"/>
              </a:rPr>
              <a:t>What is La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8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horizont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titude is</a:t>
            </a: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 measured in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</a:t>
            </a:r>
            <a:r>
              <a:rPr b="0" lang="en-US" sz="2800" spc="-1" strike="noStrike">
                <a:solidFill>
                  <a:srgbClr val="a40800"/>
                </a:solidFill>
                <a:latin typeface="Comic Sans MS Bold"/>
                <a:ea typeface="Comic Sans MS Bold"/>
              </a:rPr>
              <a:t>Equator</a:t>
            </a:r>
            <a:r>
              <a:rPr b="0" lang="en-US" sz="2800" spc="-1" strike="noStrike">
                <a:solidFill>
                  <a:srgbClr val="a40800"/>
                </a:solidFill>
                <a:latin typeface="Comic Sans MS"/>
                <a:ea typeface="Comic Sans MS"/>
              </a:rPr>
              <a:t> is 0 degrees Lat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Lines of Lat locate places </a:t>
            </a:r>
            <a:r>
              <a:rPr b="0" lang="en-US" sz="28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North </a:t>
            </a: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or </a:t>
            </a:r>
            <a:r>
              <a:rPr b="0" lang="en-US" sz="28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South</a:t>
            </a: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 of Equ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North Pole is 90 degrees N Latitude, and the South Pole is 90 degrees S Latitude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2057400" cy="121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201960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Lucida Grande"/>
              </a:rPr>
              <a:t>Longitude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3848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Lines of longitude are called </a:t>
            </a:r>
            <a:r>
              <a:rPr b="1" lang="en-US" sz="2800" spc="-1" strike="noStrike">
                <a:solidFill>
                  <a:srgbClr val="d90b00"/>
                </a:solidFill>
                <a:latin typeface="Lucida Grande"/>
              </a:rPr>
              <a:t>meridians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They circle the earth from Pole to Pole.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They measure east and west 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at </a:t>
            </a:r>
            <a:r>
              <a:rPr b="1" lang="en-US" sz="2800" spc="-1" strike="noStrike">
                <a:solidFill>
                  <a:srgbClr val="d90b00"/>
                </a:solidFill>
                <a:latin typeface="Lucida Grande"/>
              </a:rPr>
              <a:t>0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° longitude or the </a:t>
            </a:r>
            <a:r>
              <a:rPr b="1" lang="en-US" sz="2800" spc="-1" strike="noStrike">
                <a:solidFill>
                  <a:srgbClr val="d90b00"/>
                </a:solidFill>
                <a:latin typeface="Lucida Grande"/>
              </a:rPr>
              <a:t>Prime Meridian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793880"/>
            <a:ext cx="4038480" cy="422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153280" y="1981080"/>
            <a:ext cx="546120" cy="5461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6095880"/>
            <a:ext cx="102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ps101.com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Lucida Grande"/>
              </a:rPr>
              <a:t>Absolute Location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644480"/>
            <a:ext cx="403848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exact spot where one line of latitude crosses one line of longitude 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520" y="1674720"/>
            <a:ext cx="4135320" cy="3992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90720" y="5715000"/>
            <a:ext cx="3314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ttp://www.navfltsm.addr.com/globe.jpg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Lucida Grande"/>
              </a:rPr>
              <a:t>Hemispheres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North of equator is </a:t>
            </a:r>
            <a:r>
              <a:rPr b="1" lang="en-US" sz="3200" spc="-1" strike="noStrike">
                <a:solidFill>
                  <a:srgbClr val="ff2712"/>
                </a:solidFill>
                <a:latin typeface="Lucida Grande"/>
              </a:rPr>
              <a:t>Northern Hemisphere</a:t>
            </a: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South of equator is</a:t>
            </a:r>
            <a:r>
              <a:rPr b="1" lang="en-US" sz="3200" spc="-1" strike="noStrike">
                <a:solidFill>
                  <a:srgbClr val="ff2712"/>
                </a:solidFill>
                <a:latin typeface="Lucida Grande"/>
              </a:rPr>
              <a:t> Southern Hemisphere</a:t>
            </a: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6e9ca"/>
                </a:solidFill>
                <a:latin typeface="Lucida Grande"/>
              </a:rPr>
              <a:t>Hemispheres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Prime Meridian runs from north to south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t divides the earth into </a:t>
            </a:r>
            <a:r>
              <a:rPr b="1" lang="en-US" sz="3200" spc="-1" strike="noStrike">
                <a:solidFill>
                  <a:srgbClr val="ffffff"/>
                </a:solidFill>
                <a:latin typeface="Lucida Grande"/>
              </a:rPr>
              <a:t>half spheres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in the other direction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East of Prime Meridian is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</a:rPr>
              <a:t>Eastern Hemisphere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West of Prime Meridian is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</a:rPr>
              <a:t>Western Hemisphere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200103523</dc:creator>
  <dc:description/>
  <dc:language>en-US</dc:language>
  <cp:lastModifiedBy/>
  <cp:revision>0</cp:revision>
  <dc:subject/>
  <dc:title>Slide 1</dc:title>
</cp:coreProperties>
</file>